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4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4AD-D301-44CF-AD18-90C1F1A5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AF1-85F2-4F64-AC31-AC5DB53A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B6C-8899-4624-891C-35BCE27B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CC0-F0BB-47FD-9CC1-D2B5FEC9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23FC-3CF7-4690-9F6A-BE21AF3D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9B34-8484-4585-9A7E-EEB04D27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166-7384-4D66-BC74-B972B9FA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0ED1-31F4-42A0-A8F7-AAA83707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B8CC-C487-4C19-91C5-6D960985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4372-255E-4B68-BD95-BBB30162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3549-6E54-4905-8F3E-90303DC5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03F-D3C4-4760-B2F9-E8E9A595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96F3-3C9F-45B4-A02F-DC54E2C1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06C-4E9F-4D46-8F8D-A662B30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3C5C-492B-4624-859A-B4D564E7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3A7E-E673-4D2F-A704-65FD7697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7F60-291F-4E10-8943-747100F7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8540-1172-4DFE-BD5C-D32B17DD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DC3-ECB8-4B1B-8C3E-53172AB9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3B3-6EB5-4EC4-B4F9-B53C1B25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C1A-A003-4522-BA49-5ABF8A16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DFA-3289-4329-A84B-F41397C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AFA-400F-49B3-8A23-503C4D5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F6A-C639-4B55-A3A8-70E705B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8A54-E2F4-4013-8E39-5E1385EDF2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F0D4-BE76-42C4-97FF-F08DBEDD6C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youtube.com/watch?v=Co-KejT%5B7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rica and the Atlantic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13040" cy="22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B803-C309-4AA3-BD91-A8E6651453AF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gional Kingdoms in South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ieftains develop trade with Swahili city-sta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300: Great Zimbabw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utch build Cape Town in 1652, increased involvement with southern African politic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ncounter Khoikhoi people (“Hottentots”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itish colonies also develo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DE3A-0268-4F53-A550-057EA364C4F6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slam in Sub-Saharan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-Islamic paganism, ancestor worshi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lam develops in commercial cent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imbuktu becomes major center of Islamic scholarship by 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traditions and beliefs blended into Isl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nder relations, standards of female modes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C05F-C7AF-496B-A8B8-E540B20B27B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Fulani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vement to impose strict adherence to Islamic norms in Af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680 begins military campaigns to enforc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shari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in west Af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iderable influence extends to south as wel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73680" y="3429000"/>
            <a:ext cx="2470320" cy="325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2328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462-D83C-48FC-8B45-AADB942BA8FE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ristianity in Sub-Saharan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ke African Islam, syncretic with African belief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tonian movement flourishes early 1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nded by Doña Beatriz, claims possession by St. Anthony of Padua (1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 Franciscan preacher, patron saint of Portug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motes distinctly African Christian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Jesus a black man, Kongo the holy land, heaven for Africa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ristian missionaries persuade King Pedro IV of Kongo to burn her at the stak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CC6-DB54-49BE-8BC9-A62CBF5E2508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Change in Early Modern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de with Europeans brings new goods to Af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crops from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ioc becomes staple bread flo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creased food supply boosts population growth despite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77120" y="4343400"/>
            <a:ext cx="1776240" cy="2200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43000" y="4572000"/>
            <a:ext cx="1905120" cy="131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D6E-0E90-4455-9CE2-C4BCEF86F46C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tion Growth in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EDC-577F-4245-B72E-57318A0F15BC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Foundations of the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slavery dates to antiqu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ar captives, criminals, people expelled from cla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tinct from Asian, European slave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private property, therefore wealth defined by human labor potential, not 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laves often assimilated into owner’s cl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0F3-37D0-4961-BA66-1A8B99E59E25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Islamic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ramatic expansion of slave trade with Arab trad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slaves acquired by raiding villages, selling on Swahili coa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ab traders depend on African infrastructure to maintain suppl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uropean demand on west coast causes demand to rise agai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E0B-B033-4BF5-B343-836BEA778469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rab Slave Trade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5600" y="1600200"/>
            <a:ext cx="57528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B50-C0B5-4CE9-8CE4-2EE21431AECE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Early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rtuguese raid west African coast in 1441, take 12 me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t with stiff resi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dealers ready to provide sla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460: 500 slaves per year sold to work as miners, porters, domestic servants in Spain and Portug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520: 2,000 per year to work in sugarcane plantations in the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DA4-5041-4B2D-942B-1C96BD25157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frican states, 1500-1650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920" y="1143000"/>
            <a:ext cx="4538520" cy="498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B3F-B459-4168-8ED4-1F55A483BB2D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laves at Work in a Min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DC3-659F-4B51-AA57-E55431FECE3D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Triangular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. European manufactured goods (especially firearms) sent to Af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. African slaves purchased and sent to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3. Cash crops purchased in Americas and returned to Eu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666880" cy="179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F53-EC74-4528-B2DA-A73466EFE700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Atlantic Slave Trade, 1500-1800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4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27B-E115-43B0-9799-8B50D547D85D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Middle Passage (Africa-Americas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slaves captured by raiding parties, force-marched to holding pens at coa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ddle passage under horrific condi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-6 wee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rtality initially high, often over 50%, eventually declined to 5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tal slave traffic, 15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1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.: 12 mill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pproximately 4 million killed before arriv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1"/>
          </p:cNvPr>
          <p:cNvSpPr/>
          <p:nvPr/>
        </p:nvSpPr>
        <p:spPr>
          <a:xfrm>
            <a:off x="2137320" y="5791320"/>
            <a:ext cx="49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youtube.com/watch?v=Vo-JejTp7O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D69-BFBA-4926-8BED-37A306E0A0B1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frican Slave Export per Yea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3440"/>
          <a:ext cx="82501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3440"/>
                    <a:ext cx="82501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51C-B36A-4BE3-B039-591B49B25D4F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mpact on African Reg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wanda, Bugunda, Masai, Turkana resist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nefit from distance from slave ports on western coa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 societies benefit from slave trade prof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sante, Dahomey, Oyo peop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BA5-8529-43E5-9F02-F80D5163A658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Effects of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otal African population expands due to importation of American cro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et millions of captured Africans removed from society, deplete regional popul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torted sex ratios resul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/3 of slaves male, 14-35 years of 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ncouraged polygamy, women acting in traditionally male ro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DE2-D9C8-4D05-A695-E6D00E0774EF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litical Effects of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troduction of firearms increases violence of pre-existing conflic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re weapons, more slaves; more slaves, more weap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ahomey people create army dedicated to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94160" cy="5181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36368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F53-C648-4B5B-A22B-E593248728F4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frican Slaves in Plantation Societi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st slaves in tropical and subtropical reg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plantation established in Hispaniola (Haiti, Dominican Republic) 1516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ter Mexico, Brazil, Caribbean and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gar major cash cro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ter: tobacco, rice, indigo, cotton, coffe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tations heavily dependent on slave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acial divisions of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C61-664A-4456-A590-4294D53DCB7A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estinations of African Slav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224-FE91-4D04-AFF9-10571665064D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The States of West Africa and East Africa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veloped over 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ingdom of Ghan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t related to modern State of Gha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jor Gold Trad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li Empire, 1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nghay Empire, 15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nni Ali (r. 1464-1493) created effective army, nav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usket-bearing Moroccan army destroys Songhay forces, regional city-states exert local contro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9053-ED89-4CBC-8277-5768D56ADFB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gional Differenc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ribbean, South America: African population unable to maintain numbers through natural mea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laria, yellow fev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utal working conditions, sanitation, nutri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ender imbal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ant importation of sla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rth America: less disease, more normal sex rati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lave families encouraged as prices rise in 1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8E2-E639-4194-9C02-5BEF9B72D0D1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sistance to Slave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lf-hearted work eff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bot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ight (Maroon population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vol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2736720" cy="3124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4419360"/>
            <a:ext cx="52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oon was a name given to so-called "wild and unruly" runaway slaves who escaped into remote areas of Brazil, Surinam and Jamaica where they established free communiti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7A5-9D41-4533-AE56-0CB9CCE7D0D7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lave Revolt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nly one successful revol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-controlled St.-Domingue (1793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named Hait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lsewhere, revolts outgunned by Euro-American firepo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4120" y="3809880"/>
            <a:ext cx="28144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53A-2AC9-4B72-A7F9-E200DFD6A56C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frican-American Cultu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versity of African cultures concentrated in slave popul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lend of cultures – hybridization of cul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frican languages when numbers permit, otherwise European language adapted with African influen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reole languages (French and African Dialec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ristianity adapted to incorporate African tradi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E44-AD07-4DF2-AF1B-17FFCDF4939F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Abolition of Slave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laudah Equiano (1745-1797), former slave authors best-selling autobiograph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oquent attacks on institution of slave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conomic costs of slavery incr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litary expenses to prevent rebell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: price of sugar falls, price of slaves ris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age labor becomes more effici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age-earners can spend income on manufactured goo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482-B545-4B36-B6EC-626425219347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nd of the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nmark abolishes slave trade in 1803, followed by Great Britain (1807), United States (1808), France (1814), Netherlands (1817), Spain (1845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ssession of slaves remains leg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andestine trade continues to 18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mancipation of slaves begins with British colonies (1883), then French (1848), U.S. (1865), Brazil (188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audi Arabia and Angola continue to the 1960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087-F70C-4E6C-8744-A2A72B2ED9B8}" type="slidenum">
              <a:t>35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wahili Decline in East Af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rtuguese Vasco da Gama skirmishes with Africans on eastern coast, 1497-1498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502 returns, forces Kilwa to pay tribut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505 Portuguese gunships dominate Swahili por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66A-0D41-47D7-A783-4C371CD275CB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Kingdom of Kongo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lations with Portuguese beginning 148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ing Nzinga Mbemba (Alfonso I, r. 1506-1542) converts to Christian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seful connection with Portuguese interes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t zealous convert, attempts to convert population at lar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58000" y="4419720"/>
            <a:ext cx="13352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60B-136F-4649-8953-950EE027EE62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477120" cy="452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345-C91D-4A60-807F-67ECB97DB2F1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The King of Kongo and European Ambassador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FAD-A008-4438-8B03-B874BE21AED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lave Raiding in Kongo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itial Portuguese attempts at slave raid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on discovered it is easier to trade weapons for slaves provided by African trad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alt with several authorities besides Kong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ongo kings appeal without success to slow, but not eliminate,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lations deteriorate, Portuguese attack Kongo and decapitate king in 166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proved slave market develops in the sou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346-009F-440B-A351-B4A06BCE5EC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Kingdom of Ndongo (Angola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dongo gains wealth and independence from Kongo by means of Portuguese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t Portuguese influence resisted by Queen Nzinga (r. 1623-1663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sed as male King, with male concubines in female dress attending 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zinga establishes temporary alliance with Dutch in unsuccessful attempt to expel Portugue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cline of Ndongo power after her dea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212-F30B-4335-9D77-31E975DD9D2F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5T14:00:18Z</dcterms:created>
  <dc:creator>Henry Abramson</dc:creator>
  <dc:description/>
  <dc:language>en-US</dc:language>
  <cp:lastModifiedBy>ripkensa</cp:lastModifiedBy>
  <dcterms:modified xsi:type="dcterms:W3CDTF">2010-02-25T16:46:40Z</dcterms:modified>
  <cp:revision>10</cp:revision>
  <dc:subject/>
  <dc:title>Chapter 26</dc:title>
</cp:coreProperties>
</file>